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sldImg"/>
          </p:nvPr>
        </p:nvSpPr>
        <p:spPr>
          <a:xfrm>
            <a:off x="1143000" y="694800"/>
            <a:ext cx="4570560" cy="342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dt" idx="1"/>
          </p:nvPr>
        </p:nvSpPr>
        <p:spPr>
          <a:xfrm>
            <a:off x="3881160" y="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1160" y="8686800"/>
            <a:ext cx="2973240" cy="4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CF3126-2C0B-4F33-906E-343EF19B7AE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Beleidigungen / Liebeserklärungen prüfen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000000"/>
                </a:solidFill>
                <a:latin typeface="Arial"/>
                <a:ea typeface="Arial"/>
              </a:rPr>
              <a:t>Fremdbenutzung von Accounts – PC steht im Wohnzimm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2520"/>
            <a:ext cx="82281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81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ax.Mustermann@web.de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1704680" y="11382480"/>
            <a:ext cx="6972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759800" y="1103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2960" y="455760"/>
            <a:ext cx="777240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sphäre und Mobbin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286160"/>
            <a:ext cx="918036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57960" anchor="t">
            <a:noAutofit/>
          </a:bodyPr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7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Lucida Sans Typewriter"/>
                <a:ea typeface="Arial"/>
              </a:rPr>
              <a:t>Björn - Moritz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914400" y="5356080"/>
            <a:ext cx="8229600" cy="15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214280" y="4784760"/>
            <a:ext cx="792972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28760" y="164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Freundschaften... ja wie jetz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chaut in euren Einstellungen nach ob das in eurem Profil noch so eingestellt i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8760" y="1282680"/>
            <a:ext cx="8229600" cy="488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e könnt ihr eure persönlichen Daten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vor Diebstahl schütz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Lesen, denken, lesen, nochmal denken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und dann erst mach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Muss ich mich dort wirklich anmeld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lche Daten muss ich angeb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lche Einstellungen kann ich vornehm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em gebe ich da eigentlich meine Daten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enk an die Privatsphäre anderer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Fragt Freunde, bevor ihr z.B. Fotos mit ihnen veröffentlich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28760" y="164160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Tolle Sache, so ein Freundschaftsangebot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Aber auch nur, wenn ihr euch sicher seid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icht jeder ist euer Freund und Menschen, die ihr nicht kennt, schon gar nic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317016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Laura,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bin ich dein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Freund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2560680"/>
            <a:ext cx="914400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Aber nicht nur Laura ist meine Freundin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Ich habe hier noch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de-DE" sz="3600" spc="-1" strike="noStrike">
                <a:solidFill>
                  <a:srgbClr val="ffffff"/>
                </a:solidFill>
                <a:latin typeface="Arial"/>
              </a:rPr>
              <a:t> andere, obwohl mich </a:t>
            </a: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keiner kennt!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Viele „Freunde“ zu haben, ist nicht cool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Echte Freunde findet man nicht im Interne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chülerVZ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1704680" y="11382480"/>
            <a:ext cx="6972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759800" y="110314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492200"/>
            <a:ext cx="8229600" cy="48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icknames können lüg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ccccff"/>
                </a:solidFill>
                <a:uFillTx/>
                <a:latin typeface="Arial"/>
                <a:ea typeface="Arial"/>
                <a:hlinkClick r:id="rId2"/>
              </a:rPr>
              <a:t>Max.Mustermann@web.de</a:t>
            </a: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 muss nicht die Adresse von Max 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m Internet kann jeder vorgeben, jeder zu sei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Prüft es selber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Erst sicher gehen, dann add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ist Wer 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ie prüfe ich die Identität meines Gesprächspartn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Codewort vereinbar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Trefft euch an einem öffentlichen 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Nehmt jemanden mi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er ist Wer ??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Gru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" y="2786040"/>
            <a:ext cx="82296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ist in einer 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chuelerVZ Gruppe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s findet ihr an Gruppen toll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rt ihr schon an Mobbing im Internet beteiligt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Was ihr lustig findet, müssen die anderen nicht auch lustig finden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Gruppe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ie Betreiber von SchülerVZ können in alle Gruppen se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ie können auch private Nachrichten les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Aft>
                <a:spcPts val="1426"/>
              </a:spcAft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Kurzum, sie können alle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Privat ist nicht Privat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enk nach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40000" y="1260360"/>
            <a:ext cx="6300720" cy="4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0" y="3110040"/>
            <a:ext cx="914400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3600" spc="-1" strike="noStrike">
                <a:solidFill>
                  <a:srgbClr val="ffffff"/>
                </a:solidFill>
                <a:latin typeface="Arial"/>
              </a:rPr>
              <a:t>Ein Beispiel..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Lehrer, Vertrauenslehrer und Sozialpädagog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precht mit euren Elter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Meldet euch bei der Verwaltung von SchülerVZ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74680"/>
            <a:ext cx="70196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Ansprechpartn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Was lernen wir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28760" y="1427040"/>
            <a:ext cx="82296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87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Überlegt euch genau, was ihr ins Internet stell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Schreibt nur das, was wirklich die ganze Welt wissen darf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„</a:t>
            </a:r>
            <a:r>
              <a:rPr b="0" lang="de-DE" sz="26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Das Internet vergisst nichts!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nformationen im Internet verteilen sich schnel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Aft>
                <a:spcPts val="1137"/>
              </a:spcAft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Arial"/>
                <a:ea typeface="Arial"/>
              </a:rPr>
              <a:t>Ihr könnt sie nicht mehr überall finden und lösche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28760" y="1476360"/>
            <a:ext cx="846432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66960" anchor="t">
            <a:noAutofit/>
          </a:bodyPr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Denkt immer nach, bevor ihr im Internet etwas schreibt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Auch in Foren oder im SchülerVZ kann das jeder lesen!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Nicht nur alle eure Mitschüler, sondern sogar eure Lehrer, Eltern und Frem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Gebt nicht einfach Fotos von euch raus und ladet keine Fotos von anderen ins Internet, ohne sie zu frag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Wenn möglich, benutzt einen Spitznamen (Nickname).</a:t>
            </a:r>
            <a:br>
              <a:rPr sz="2400"/>
            </a:b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Euren echten Namen könnt ihr nicht so einfach wechsel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201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400" spc="-1" strike="noStrike">
                <a:solidFill>
                  <a:srgbClr val="ffffff"/>
                </a:solidFill>
                <a:latin typeface="Arial"/>
                <a:ea typeface="Arial"/>
              </a:rPr>
              <a:t>Gebt nicht wahllos eure Adresse weg. Auch eure Handynummer geht nur eure Freunde etwas 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64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Danke fürs Wachbleiben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2881440"/>
            <a:ext cx="9144000" cy="10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bjoern@hamburg.ccc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de-DE" sz="2200" spc="-1" strike="noStrike">
                <a:solidFill>
                  <a:srgbClr val="ffffff"/>
                </a:solidFill>
                <a:latin typeface="Arial"/>
              </a:rPr>
              <a:t>moritz@hamburg.ccc.de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2170080" y="2330280"/>
            <a:ext cx="6972480" cy="45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57135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144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357120" y="1785960"/>
            <a:ext cx="257184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444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Deine IP-Adresse und wann du online gehst sowie die angesurften Websei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Absender, Empfänger und Inhalt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Rufnummern, Zeitpunkt und Anrufdauer bei Telefon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457200" y="233280"/>
            <a:ext cx="8229600" cy="122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10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Arial"/>
                <a:ea typeface="Arial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1600200"/>
            <a:ext cx="822960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700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846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Arial"/>
                <a:ea typeface="Arial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1619280"/>
            <a:ext cx="8229600" cy="450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73800" anchor="t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Arial"/>
                <a:ea typeface="Arial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77" name="" descr="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9-05-11T00:41:17Z</dcterms:modified>
  <cp:revision>186</cp:revision>
  <dc:subject/>
  <dc:title>Folie 1</dc:title>
</cp:coreProperties>
</file>